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526-CF84-414F-84A8-3539FB69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1290-7A7F-4AB8-9CF1-359D7252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FAB3-8F7B-4D4C-AB85-2B237F2C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3AAC-287D-4350-A982-C231A9D1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E362-655B-4C7B-A20B-8F922E1C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D858-B897-4D4D-9D6F-E1E8082E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6875-A2E7-409F-83DE-C35A7DD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229E-C07A-41C2-9519-8ED82AAF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A61-D1EA-41C6-9A03-0C57B99E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BCE3-B3CA-43D9-90C1-6DA66403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CC8-1F71-40D6-93A0-EF1C3BA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1C4-C90F-476F-AE34-C76AAD6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C03-D7ED-40D2-B122-60D7B88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F7A4-98A8-4CA6-88F8-95C4C45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B0AC-34F7-48AF-9AF0-80FA896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8770-CD6A-4D44-B8AE-BF1262F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8D05-96AE-46BF-9125-218C75EA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B12C-FBD3-4704-ACEA-BE1E2AE3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DA6C-53DB-42A7-AFA9-A77DFF6D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45F3-D799-414F-BA6C-DB3B5E4D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3E5D-8EE4-4BE2-AA97-9CB40BD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5B6A-F4A2-4F35-893C-34D9FDA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3C4D-C9EB-48A7-A8A1-1413614B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FEB5-99DC-4144-8720-CE093DE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339A-C9EB-4C66-A242-0B4ED77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E0A8-BFA6-4EEE-947A-464F6DB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E99E-B595-4CEE-A5C0-26BAC7E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A3BA-7737-40DC-BFB8-1876A36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5425-BE9A-4186-B259-203067A7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1811-7500-4214-8EDB-7A1E26BD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82EB-4F5F-41B5-9653-53565AFF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9247-18E7-491C-9E0C-2EE7CBF8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85E57-FD3D-4351-84DD-BC851E0587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7B469-0A79-43BF-9270-088CC6EA09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3F263-B2FD-42D0-8005-097D40425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DBE1-DCAD-429A-B886-8E40539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0C1ED-A5C0-4764-9593-5AE9E6241F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8F26D-6AA0-4674-92D0-A5D472FD0B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D02FA-AF34-4F3F-B03D-0FE6A91B8C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C2D56-DB47-475A-8D33-886F38D411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70C09-5985-4FA6-9F79-27ABDEDA69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3B02F-C22B-4EB1-B1A1-28BE2856B4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7A1A7-85E0-459A-B0E5-42D093681E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8F463-6933-48B5-B066-E920D6FD94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D41F9-09A2-49A2-BAFD-3FD3F2AD08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E152-3148-42BF-A31A-411B3DB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F988-D70B-4716-8EAD-D9C8E68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27F0-25AE-49DC-88C3-6C1E4C1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A466-FF4C-4CB3-BF12-7BEBC2E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F6DF-BEC3-4FB1-8981-FFD886B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1DBB-5353-4808-B722-0C56F82E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8CCF-7E00-42D2-B76A-86508C78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5F3D-2A1C-4D75-875C-E4F46C6A5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BD2-CAE6-4837-AEA9-B39DE84A9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5B4-534D-4398-BF23-58DDEA265FD9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257B-BC81-42D2-ADE4-3C20751D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December 10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Elected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83F-0B6D-41B1-BFCD-DBC5A027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ctober PWG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085760"/>
            <a:ext cx="8915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Type BUSIDRRQ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BUSIDRRQ profile population will largely remain BUSIDRRQ due to outlier issues (EPS metering or unique premise feature) for most TDSPs.  TNMP will make a 2025 conversion pus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 PWG leadership discussions w/ERCOT Forecasting have resulted tomorrow’s whiteboard meeting in workshop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deliverables and data needs are among the meet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B69B-1436-437B-91BD-D2149419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ctober PWG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114480" y="108576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Decision Tree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 introduced the LPGRR draft of the Excel-to-Word conversion, for PWG review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itial review will focus on formatting rather than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6FE-090D-4968-A214-D795B6807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28600" y="1066680"/>
            <a:ext cx="8763120" cy="57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is in-person at ERCOT Bldg. E, Ste. 100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December 11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meeting info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AV Process Improvement Whiteboard agenda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of TDSP manual worka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V pieces can be auto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aking versus overha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1"/>
          <p:cNvSpPr/>
          <p:nvPr/>
        </p:nvSpPr>
        <p:spPr>
          <a:xfrm>
            <a:off x="571680" y="38228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Upcom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liler, Steven</cp:lastModifiedBy>
  <dcterms:modified xsi:type="dcterms:W3CDTF">2024-12-06T23:21:18Z</dcterms:modified>
  <cp:revision>1485</cp:revision>
  <dc:subject/>
  <dc:title>Instructions</dc:title>
</cp:coreProperties>
</file>